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78C-78ED-46F2-9641-8B5DFA70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29F-76AF-4385-A0C2-A81757C3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DFD-56C2-4D42-BAC1-041226B7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D76-E92F-4274-8B73-0C1D9E45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66B3-0728-4A49-9C33-C591D65B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9698-097F-45C1-8DA5-B9E53297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397C-D19F-4C88-9E16-145D6595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30A0-A399-416C-A495-416D4A41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89E9-553C-442B-AF33-28801661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C9CE-1192-4832-85E6-5FFA7DC4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F734-3C10-4625-9D61-7C286F63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C218-2E8C-462C-8DB5-E2026F67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0907-6A94-44A6-A214-C730DDD5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0182-EC14-4A71-AE5E-8CA54D18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927A-50B2-40B7-A92F-E5F209A8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021B-B839-46A9-93CF-533717F7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CEB3-18E7-43E4-A2F1-2CA1BB6A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984-E21B-4800-92FC-557AA2A7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00F-F1EF-43A6-8C53-22E6CF5D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EF44-320C-43B3-852A-FCE58E46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3BA-8D9A-40BF-9DF7-7B1A46B0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A6B-1989-409B-8C34-F5BE88E5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742-7749-4C6C-BD01-F013C8FB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8B72-414F-45BB-8F92-8FAC3477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E498-9C19-4C21-8488-C11000CAA1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08AF-2C18-4141-B16C-AD2EE50F8A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71640" y="0"/>
            <a:ext cx="784836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Muwashshaha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¡Ay, quien me diera esa cierva que ti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 su mejilla una rosa entre sierp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unque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sus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ánguidos ojos me hiere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hallo consuelo en su talle gallar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y en su esbeltez, si me ayudan mis h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use, rendido, a sus pies mi mejill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ro crecióse en orgullo y malic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y dijo, al ver que mi llanto corr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«¿Dónde aprendiste ese amor extremado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Dije: · En tus ojos lección he tomado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908000" y="404640"/>
            <a:ext cx="575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8920" y="189000"/>
            <a:ext cx="6337440" cy="9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 replicó, y me dejó de una pieza «¿En acusar a mis ojos no cejas?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o - le corté -, no por Dios, no te ofen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No he de mentar, si no quieres, mi agrav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Ya soy muslim convertido, y no ma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Tú, cuyos ojos al ciervo le afrenta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ú, que a la hurí con tu talle super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ú, cuya luz a las vistas anega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Credo secreto. es tu amor, y es, arc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he de tenerlo por siempre guardado.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260280"/>
            <a:ext cx="914400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¡Oh tú más bello de todos los ser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i corazón va en pos tuyo, y no vuel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Óyele cuando de ausencia se due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GAR KOM LEBARE DAL-GAIBA NON TA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¡YA WELIYOS DE L ASIQA, SIN NON 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Í CÓMO SOPORTAR ESTA AUSENCIA. ¡NO TAN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¡AY DE LOS OJOS DE LA ENAMORADA, SI NO ESTÁS TÚ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01:47:02Z</dcterms:created>
  <dc:creator> </dc:creator>
  <dc:description/>
  <dc:language>en-US</dc:language>
  <cp:lastModifiedBy>-</cp:lastModifiedBy>
  <dcterms:modified xsi:type="dcterms:W3CDTF">2008-10-06T23:25:36Z</dcterms:modified>
  <cp:revision>5</cp:revision>
  <dc:subject/>
  <dc:title>Diapositiva 1</dc:title>
</cp:coreProperties>
</file>